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3C4-A022-496D-9B41-3F01619A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174-61AF-4E52-93F9-5724CBC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76D-8CE5-4AC8-8F76-5AA35E83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845-FB37-4DA8-A6F7-CBB553B2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CA3-0067-4A40-A0E8-FC8E3F73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7E3F-2B84-412E-A96F-D4F45A9E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2682-E8DF-4C27-B62D-B18BE46F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E7E0-73AC-46D3-9299-DE2F1A72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40AD-CFAF-430A-AEF5-60A826E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EAD-7B36-4A93-86D2-36478641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33C-B609-44A5-9142-E157651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247-3A7C-4307-A10E-601C1E1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2DD5-6220-45A1-8278-E0EEB5B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78F6-C2F1-49BC-8BE3-F19783A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93C-3966-4514-9CB3-5FCE6136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4EA-3A3D-4002-AE1E-88A5C096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055-A03A-499A-A653-7EE78B55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06B-3344-493D-935B-C6659E0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E0A-0EFC-4F33-87EF-75ACA07B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D7B-CD59-4493-BD64-B499B14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9AD-03A3-4DD5-8011-392BA06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DD1-BA20-44AC-8686-826F15A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917-7F47-45EC-AB40-B58B8D5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078-22A3-4CF2-94B4-F31251D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43_A_Them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9792-325B-40EF-B25E-06C24473D70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7720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3B8-3E65-4888-9B42-F51A9276FE1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1560" y="1218960"/>
            <a:ext cx="48769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Dramatic Performance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4343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asic Forensic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tagonist: the character who provides the obstacles to the protagonist’s objectiv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agonist: the principal character around whom the action revolv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ple: Batman/The Joker; Harry Potter/Voldemor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flict: the point in a play or story where action meets obstac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isation: Impromptu acting based on the following circumstances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who/what/where/when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ologue: a work written to be spoken by just by one pers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le: a part/character/person written by a playwrigh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cript: the play in written fo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atures of a Dramatic Perform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ear plot--the performance tells a full story. Contains an exposition, climax, resolu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--the performer will give an introduction that lasts 30 seconds to one minut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atures of a Dramatic Perform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. Length--must be approximately fiv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nutes lo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. May be humorous or dramatic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5. Movement is permitted to develop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aracter and to delineat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tween charact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urces for Piec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V, movie or play scrip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vel/short story (fiction/non-fiction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hildren’s book, fable, fairy ta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sicals (short singing permitted)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34:09Z</dcterms:created>
  <dc:creator>McDowell High School</dc:creator>
  <dc:description/>
  <dc:language>en-US</dc:language>
  <cp:lastModifiedBy>Amanda Sitter</cp:lastModifiedBy>
  <dcterms:modified xsi:type="dcterms:W3CDTF">2015-01-14T13:13:08Z</dcterms:modified>
  <cp:revision>3</cp:revision>
  <dc:subject/>
  <dc:title>Dramatic Performance</dc:title>
</cp:coreProperties>
</file>